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67F-F2E1-4A62-8C69-579A0FC6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5C4-F054-43A5-B253-E72E7BCD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720-C6E5-449B-8ABD-09E74EFF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B0C-A9C8-4EEF-9BA5-0D1D9100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46B7-BF41-4D54-80FF-8E7196CB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A42A-2A20-47B2-BF32-C552956D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0BD0-33D4-4075-94AE-2F830FDE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0A72-FF5A-4557-9B6C-ED24A748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E689-DAA7-4735-887C-AAF8F4AD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3C34-EE65-440A-A84A-8085A5E4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A1B5-27D3-4AE9-805A-865688B5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728-BD18-4E4F-A2E1-51780ABA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C00C-8A9F-4572-8DB0-8C59C85B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CD30-93E2-45A4-ACCF-BB895256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B400-A46A-4BE8-8A7A-039F6506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50A0-C356-4F9F-A868-D062CD2A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BBE8-AEC0-43E3-880D-4A49818C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7DA9-09F8-417E-BE0C-998775E0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61240-0515-4CD2-8B12-0F9D11E9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FDEF-18A9-4D6D-8755-FE968EA9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11C8-F719-4093-8AC2-2709C5BB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4906-CDFC-4ABD-980C-3B82B59A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651-CE66-4449-B0A1-D6E03360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454E-E5CB-4BC9-AC1E-49122B79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0DD1F-6118-41A1-826E-FF701B7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F2659-10F0-430D-8997-96A23D41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B436E-ECE8-4F13-9C03-D5F73C79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0682-6F5E-4127-A23D-A7004EA1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583A7-DF85-4DA1-8BE3-ED125202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81FA-B1AD-4069-870B-6C5E4DD5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6054B-B272-4C01-864C-93D302A2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B1F36-48BD-4CBF-AB8D-BB8F6B84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08C26-BE43-4999-A13F-AC87ECD1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6F8-1974-4DE5-844C-75486280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A81B9-0F3E-41D3-844C-B40B12E7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2392D-B477-4400-81BE-C4CE1E41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97BAB-1CBC-49C5-B25C-506E05F7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B5A64-44DB-4051-953F-AF6188F4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216E0-5CAC-4D0D-A9BB-D3F2DCB2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31A3-A8AC-47CC-B882-14E0C67C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60C59-32A8-49FD-B1E0-A9A5B5BB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2D750-5F5D-4CB3-9569-8C93F791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43573-9017-49CB-BBD9-67D7B5D5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23B96-371C-4A33-8581-367A3CF9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02F-41AE-4187-9937-2F7B33E5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1B62C-4E82-4240-949C-435A59DE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3789-C586-42E6-B21D-8D6CFB6D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54A0F-A481-47AE-95BA-99363751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00905-7A51-4E1D-864E-3D509C66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84EE2-ACD6-4827-941B-F062CFE0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0349C-8D7A-426C-9014-2C4C3E58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ACDA-7554-4109-B76F-CC587B82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7C0D2-E2A4-4E9A-8440-6C4C3BAA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7510B-FE6A-419A-931F-10E8699A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9BB6C-02C1-45C6-BBEA-8E294BD7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3D7-8F1C-4D97-A677-E598A2FC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4E46B-4544-423A-8812-83F4CEA8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64A9E-7F6C-476A-A443-7E72EE88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A99B0-B930-4EA0-BDC9-2B158D17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3D4E4-4D01-4142-BFB3-BA0300BB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DF7B5-966A-40D8-908A-38DA1E73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81CB0-F4C8-4EA2-8239-4A5A7B55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6986D-6600-4FB6-B7C3-DCCEB9C6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6529A-59C2-4841-ACFF-EB7893B4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F135E-A907-4596-AA79-392B513D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D013C-FDD4-43E9-B024-EF8C95EB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4AB4-D55A-4269-9EB2-4C370F08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169D2-EC58-459B-A302-1B397A81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07717-A078-43BA-B3E5-76CCD9C2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39988-488B-4048-8A1C-17C77FF8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2A0B4-937E-4441-8F0C-8C01B19A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D859D-50FD-4306-9033-9401C45F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D55A0-F443-43F1-8BF1-1BBEE18A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D3E89-30D2-4A55-B0CE-CB3674B4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1E251-6602-4D42-9987-13A87124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D2014-C6F9-42FF-B1DC-79D37D20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63F4F-9FF8-411A-837B-664AE736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6A0-8976-4DFB-87E7-E1EC62A9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8AA2C-BF71-4FD0-AEA6-64E3CCF8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61339-4AB4-4ECF-9EFB-649361B1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9D643-8350-4333-887E-61CE488A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72BCB-66B6-4E45-A9AA-D0AA248F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528E3-09A8-4897-8572-4EBCED23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AFA-E9D3-4F82-9467-72E906DE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A0EA-FEBC-4AE7-B5CD-F784048EF9B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4C88-8EB4-4EE7-BB87-AEDBC983C6B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BC96-AE00-4BFF-B3D7-502054CF18E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489F-FEBB-4035-8EC4-1E6B1425582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8412-6883-4F8A-9CF3-B6047D2EF36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13A8-CCCF-45E0-90AF-21EFFA331E6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530C-F0A8-45D9-8945-531EF4C2AC0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f88631"/>
                </a:solidFill>
                <a:latin typeface="Gill Sans MT"/>
              </a:rPr>
              <a:t>Lead Mining in the 17</a:t>
            </a:r>
            <a:r>
              <a:rPr b="0" lang="en-AU" sz="4300" spc="-1" strike="noStrike" baseline="30000">
                <a:solidFill>
                  <a:srgbClr val="f88631"/>
                </a:solidFill>
                <a:latin typeface="Gill Sans MT"/>
              </a:rPr>
              <a:t>th</a:t>
            </a:r>
            <a:r>
              <a:rPr b="0" lang="en-AU" sz="4300" spc="-1" strike="noStrike">
                <a:solidFill>
                  <a:srgbClr val="f88631"/>
                </a:solidFill>
                <a:latin typeface="Gill Sans MT"/>
              </a:rPr>
              <a:t> Centu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356840" y="928800"/>
            <a:ext cx="7497720" cy="21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lead mining was one of the most popular and well paid professions in England in the 17</a:t>
            </a:r>
            <a:r>
              <a:rPr b="0" lang="en-AU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 Century. For poor families, it provided them with the possibility of a better life simply from one lucky find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i="1" lang="en-US" sz="1700" spc="-1" strike="noStrike">
                <a:solidFill>
                  <a:srgbClr val="000000"/>
                </a:solidFill>
                <a:latin typeface="Gill Sans MT"/>
              </a:rPr>
              <a:t>without lead, many thousands will be undone; that great multitude, their wives, children and families, that live merely by getting of lead ore and trading in that commodity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.’ </a:t>
            </a: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quote from the governing Derby committee during the English Civil War (1642 – 1646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KT42" descr="show larger in a new window"/>
          <p:cNvPicPr/>
          <p:nvPr/>
        </p:nvPicPr>
        <p:blipFill>
          <a:blip r:embed="rId1"/>
          <a:stretch/>
        </p:blipFill>
        <p:spPr>
          <a:xfrm>
            <a:off x="5508720" y="2852640"/>
            <a:ext cx="2938320" cy="3000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http://www.peakdistrict-nationalpark.info/_images/_pictures/KT36.jpg"/>
          <p:cNvPicPr/>
          <p:nvPr/>
        </p:nvPicPr>
        <p:blipFill>
          <a:blip r:embed="rId2"/>
          <a:stretch/>
        </p:blipFill>
        <p:spPr>
          <a:xfrm>
            <a:off x="1476360" y="3213000"/>
            <a:ext cx="3835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356840" y="1000080"/>
            <a:ext cx="74977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mining was hard and dangerous work, and death, illness or injury was commo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poisonous lead dust, underground floods, falling rock, methane gas and lack of oxygen were just a few of the potential hazard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il_fi" descr="http://www.peakdistrict-nationalpark.info/_images/_pictures/KT33.jpg"/>
          <p:cNvPicPr/>
          <p:nvPr/>
        </p:nvPicPr>
        <p:blipFill>
          <a:blip r:embed="rId1"/>
          <a:stretch/>
        </p:blipFill>
        <p:spPr>
          <a:xfrm>
            <a:off x="1763640" y="2492280"/>
            <a:ext cx="3033720" cy="3143520"/>
          </a:xfrm>
          <a:prstGeom prst="rect">
            <a:avLst/>
          </a:prstGeom>
          <a:ln w="0">
            <a:noFill/>
          </a:ln>
        </p:spPr>
      </p:pic>
      <p:pic>
        <p:nvPicPr>
          <p:cNvPr id="324" name="KT32" descr="show larger in a new window"/>
          <p:cNvPicPr/>
          <p:nvPr/>
        </p:nvPicPr>
        <p:blipFill>
          <a:blip r:embed="rId2"/>
          <a:stretch/>
        </p:blipFill>
        <p:spPr>
          <a:xfrm>
            <a:off x="5292720" y="2492280"/>
            <a:ext cx="3089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285560" y="999720"/>
            <a:ext cx="7497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by the 17</a:t>
            </a:r>
            <a:r>
              <a:rPr b="0" lang="en-AU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 century, lead was used for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the roofs of public building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new houses being built by the nobility and gentr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all  houses, including farmhouses and cottages, had windows with lead bar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water storage and piping, as it was the only material that was strong enough for these purpos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Gill Sans MT"/>
              </a:rPr>
              <a:t>ammunition by every arm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4" descr="http://i.dailymail.co.uk/i/pix/2010/11/05/article-1326855-0BE59EB7000005DC-191_468x311.jpg"/>
          <p:cNvPicPr/>
          <p:nvPr/>
        </p:nvPicPr>
        <p:blipFill>
          <a:blip r:embed="rId1"/>
          <a:stretch/>
        </p:blipFill>
        <p:spPr>
          <a:xfrm>
            <a:off x="4214880" y="3286080"/>
            <a:ext cx="4100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331640" y="1125360"/>
            <a:ext cx="749772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mining took precedence over land ownership, no land owner or farmer could interfere with lead min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y the beginning of the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century, lead mining in England declined, as an intensive period of Welsh mining had commenced, and many English miners moved to Halkyn in Wale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2" descr="http://www.peakdistrict-nationalpark.info/_images/_pictures/LP18.jpg"/>
          <p:cNvPicPr/>
          <p:nvPr/>
        </p:nvPicPr>
        <p:blipFill>
          <a:blip r:embed="rId1"/>
          <a:stretch/>
        </p:blipFill>
        <p:spPr>
          <a:xfrm>
            <a:off x="1258920" y="3357720"/>
            <a:ext cx="3608280" cy="2357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www.peakdistrict-nationalpark.info/_images/_pictures/KT34.jpg"/>
          <p:cNvPicPr/>
          <p:nvPr/>
        </p:nvPicPr>
        <p:blipFill>
          <a:blip r:embed="rId2"/>
          <a:stretch/>
        </p:blipFill>
        <p:spPr>
          <a:xfrm>
            <a:off x="5076720" y="3357720"/>
            <a:ext cx="3554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Bibliograph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erbyshire Lead Mining History’, Wikipedia [online], 2010,  accessed 30/11/2010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 MT"/>
              </a:rPr>
              <a:t>http://en.wikipedia.org/wiki/Derbyshire_lead_mining_history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Lead Mining’, Peak District National Park [online], 2008,  accessed 30/11/2010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 MT"/>
              </a:rPr>
              <a:t>http://www.peakdistrict-nationalpark.info/time/industry/leadmining.htm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1:03:54Z</dcterms:created>
  <dc:creator>Mentone Grammar</dc:creator>
  <dc:description/>
  <dc:language>en-US</dc:language>
  <cp:lastModifiedBy>John</cp:lastModifiedBy>
  <dcterms:modified xsi:type="dcterms:W3CDTF">2010-11-30T05:45:31Z</dcterms:modified>
  <cp:revision>14</cp:revision>
  <dc:subject/>
  <dc:title>Lead Mining in the 17th Century</dc:title>
</cp:coreProperties>
</file>